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D78-9CD1-4E2C-90A4-D2BA73D926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A285-A826-41B9-A99E-2A62F72CC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04C7D3-0165-4D53-9C99-39DA5825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A53-99C6-44FB-901D-9E6A40CD58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6BE-C768-4143-8662-FC0CCB357A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B0A1-C133-4FB1-9485-B3FEFC506F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280-5B5A-4859-B85D-F586EA3CCA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FFF6-480B-4CC8-96DB-91BFBC2918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552-F516-43DA-978D-BB5ED10AF5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7414-37D7-40D7-A433-0CB0737E4B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A291-0032-4C2B-9FED-6B7F6E9F20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FEE-A24A-4D0E-BC47-DF64996039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AC8-89A3-4785-9345-EC75589807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A51-77BA-48D7-AAFC-715001DB96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9350-2FEE-4DDB-AD52-33405A01730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EFB8-8FC9-4713-B97C-262D067281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2A69953-998D-4AA6-8BF0-63D09562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DDB-2FE1-4DF8-B8A2-C9C3603C6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0D800E-8360-4972-89ED-C9692FEA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B1DB3A-3CFF-4157-9218-C3DB8820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717665-A83B-4961-9F73-62B3A371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73B9-E7A6-482A-99F4-799A021CB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D3C3-914B-4765-87E6-698C2AFD4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82E1-071B-4A3D-9BE7-76D8D824E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7357-26D7-4045-B534-731F025B5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3DC0-0F7B-429F-8A4E-27F5269F7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7D23-CFB2-45CB-8C77-991EFD3158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A6B59-06FB-45AB-92BA-8378B26789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EEBAF-6895-4673-A5C2-FE0A609D02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747AC-08BF-4B8E-AFA4-9888605F9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EF18-6924-4EC4-BC3D-9221285716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ECE28-674B-4E3C-9DFF-9859871C19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D34FB-12A4-4913-B498-AB0817C18E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BE3CE-2516-4014-A514-D7792704F4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F9E9D-4BBF-4653-987F-620222A18A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613A-A177-4725-9FE4-5DE79949B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6D55-E1F5-445F-A093-BF5EFE7FBC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DFC79-4223-4D9B-84E6-DA2B6C21F2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8D62-A4F3-4D8D-B54F-F30730D4AC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4CA77-E02D-4327-B113-E9167390A3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D5B72-E54F-42BC-8F00-B47E397D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DEE2-281E-4B5E-AA3C-3FF63A3DC0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B5CBB-4415-4265-BCF1-15199A2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D6541-26C4-44EA-8958-381EAA6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CAF25-FA4D-4220-AEDA-9698DC0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7179C-5E75-41E0-A563-714DCCC9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FF486-415D-40A0-8851-8CB14DB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78EFE-5E38-4950-9FB5-B72CE16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5B538-0047-4F69-BE6B-415DCEAD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40548-BE8D-4D2A-B6CD-3BD94B8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27281-DF8B-42C7-A777-854BA41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3E839-1F24-40EE-B5DC-37D5BB02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4E2E-F67C-487D-90CB-C6E469786A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02E55-4970-42F4-9D09-FC34118B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5D27-6F6D-4FF5-99AB-142A49887F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B3F6-AB57-471B-BCD6-1AED675FE2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AF0CF-71DF-4688-A80A-6259E1E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BA0F8-CD44-4BCF-A03B-DE0AEBB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86F80-48DA-4A3F-8B06-434EF72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C11E7-00B3-434C-8A69-C8A91B5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EBDC3-B016-43EF-A04D-16BC0F4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0199-4D67-4A7E-BE44-C498E08A64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67801-68D6-4F9D-8232-BDA99BF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E774F-8E22-4844-96DD-E673A9C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AA11C-DD38-4807-830F-539DA7F4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E330E-493D-43D0-8372-BD23CDA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5CE32-0544-457F-8223-109649EE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AC3AC-A090-4A00-8AA8-E0F03C34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7F9DC-E2C2-4E70-AA05-086B6D02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636-E26A-427D-AB50-8E64393F2C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842-8444-4A0B-8DFB-AC999DACDBC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95F-B84D-4C92-A359-D163C50C14D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757-F570-41B5-A4E5-57515458D13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4D7-AFB8-40AC-9236-514404F714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6E3-51AA-484E-9D38-1A1FC9C7F63E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4B0B-6366-49A6-92B7-8C8466CC512D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262-F839-4093-924A-A579B1BC1E7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4A0-F89B-4888-B7F9-D8AF6F04983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88C-6EEB-4A26-9354-A1243A13AE1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4929480" y="587376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900320" y="549288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925160" y="473076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915800" y="51116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049A-F336-4DAD-8AD3-9FA3588EF1A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443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7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452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6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461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467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476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76"/>
          <p:cNvSpPr/>
          <p:nvPr/>
        </p:nvSpPr>
        <p:spPr>
          <a:xfrm>
            <a:off x="3124080" y="594216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413C-945B-41FA-87FC-990FBFAEE48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514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516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518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2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560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567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576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0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4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585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9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91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4E4C-FD87-4236-B19C-F841E1DBDE9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79F-1F75-460B-BD55-6A273BA03C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607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620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625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626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631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632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637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638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643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644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649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650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655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656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661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662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8466-B383-4312-BD5B-A1D8BF8CC7F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71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76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683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684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89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90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96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97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7B60-3017-4FFE-8C4C-EAC3842E26A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71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72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727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728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733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734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740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741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2F5-FED4-4C0B-A956-316C4F6C3E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ED1-F849-4B98-B5B2-AD4D30916B4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2133720" y="2286000"/>
            <a:ext cx="716256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3AC3-44CE-4F3B-B7B1-4A90DD36D17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DAAF-B080-4DA2-A427-D76660EF25F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774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776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782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406-507B-425C-A913-3B1FE91D846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5"/>
          <p:cNvSpPr/>
          <p:nvPr/>
        </p:nvSpPr>
        <p:spPr>
          <a:xfrm>
            <a:off x="56880" y="5745240"/>
            <a:ext cx="75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97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800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51A0-DECC-4CF7-9A4A-42B18B1C06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399600" y="5950080"/>
            <a:ext cx="79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CFA-506A-4906-8139-C33D4D0F3E7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824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844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Text Box 26"/>
          <p:cNvSpPr/>
          <p:nvPr/>
        </p:nvSpPr>
        <p:spPr>
          <a:xfrm>
            <a:off x="3193560" y="1604880"/>
            <a:ext cx="52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848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862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864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867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868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873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874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880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881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3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7AB-EB14-4252-949D-5DA3FABA9B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96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97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9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0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903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906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9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2441880" y="91440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917-C031-4F3D-8B4F-3BBEFD8E6A6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18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1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2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3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4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5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927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930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E3F0-5393-4294-B1D5-CB9B50C0D4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938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940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966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970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975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AD53-F208-4F33-87B3-6394432846A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98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1001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1005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1010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1016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1022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1028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1034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1040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1046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1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5C1-CA20-4948-8B2A-EFDB5D5F04C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4"/>
          <p:cNvSpPr/>
          <p:nvPr/>
        </p:nvSpPr>
        <p:spPr>
          <a:xfrm>
            <a:off x="821520" y="6407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049-807B-4C0E-A933-0789482DA50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CBA-FBBC-4135-B928-0B828AEE185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6C0-B427-4522-BC23-CE255431795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1066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9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5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D9EA-56D1-4381-A618-C13006FB876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342-FDA6-4E18-9532-3CF8064AFC1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212-7EBD-42F1-A09B-110BB465E27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3736-7A70-46D2-8E74-DD856754E5A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44D-17AF-4674-9163-9F9567E00BA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A48-ACB8-43FB-AE91-C54D30FC67A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1DFF-EDBF-4DB2-8684-6CC7231403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4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A00-4196-4E2F-897C-07547DB0882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6762-0D7B-48D9-AF83-94043E4FCB0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E2B9-BF41-4F31-AD7F-D74B092FF22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3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4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6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7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9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0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132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3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135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4DF-8300-43E9-88BC-B8003C55F6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7DC-9A39-49C6-8DA5-B57862D0340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54C6-DD06-42E6-9D36-305651AF461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AF6-BE26-4546-B649-4267BB2BC84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22C5-827E-4228-B035-C8E3A0B0A7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C43-94F8-45A1-A824-D8C8A0310FD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FEF-656D-4F94-9A6D-DF1B99DA222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734-8B77-48AF-9BC4-580C955AD3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D5F9-473F-4CE3-9F5E-AA9C17A0FB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562B-229D-49D4-A4A5-140B491F9AA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DBF-5834-47D5-8EBE-1EC1D7A07C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205-C192-4CFF-B2B0-D7C54891D1A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20F-2BFC-4497-8A3C-580871015F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22E-B317-4D5E-98E8-B0C12FB4A9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838-D234-4F4A-88C9-9C10BB0317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217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218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0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221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226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23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1999-9E79-4F6B-9F43-264C7BAF983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232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87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42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95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31F9-8F04-4182-BE37-2449AFAE29C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0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45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5B01-DD95-49EF-8E32-53EC3FF3FA7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5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1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3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7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3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9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7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5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E99B-C813-4B53-95C1-1CA600E89C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3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6357-024F-400B-9A2A-88F3F75ED6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DCF-6876-4069-87E5-E056793920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5B55-1045-4AAD-AE24-093A42DD7EE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4F9-D9A1-4174-9EED-726D3480CAA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6FD-83AE-4C3F-BA69-1AF62E0541D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719-8833-4659-BE4F-BC69149AF8D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31C-1B2B-4EE4-A905-DE0CDEDD988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1CC0-7031-40F4-B125-CFF5CBFC8E2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AAD-E9C7-4438-95CD-1706E16674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8983-AEF2-4FD8-911E-CFC148B10C0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561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E44-46F8-4926-81F8-CEB7D6BE5B0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5CD-8291-4918-8F7C-879F5825CAC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8263-FA1C-458B-AD6D-5FFF5DC388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7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0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F79-2295-4B7F-8EEC-4C604B9C0F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63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5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7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67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70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73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76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76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76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9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82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85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85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85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88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91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93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94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94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97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200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202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203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203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206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8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11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11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12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15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17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20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20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21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23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26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9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9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30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32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35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38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8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8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41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44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47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47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47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50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53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56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57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58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9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9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60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61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62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62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63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64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65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65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66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67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8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8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9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70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71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71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72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73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74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74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75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76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77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78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9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80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81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81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82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83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84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84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85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86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73A-7B42-40B9-90AE-6F7FA370CD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E4C-E2B7-4D35-836B-6A7DA9D4FD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741-02CF-4870-9100-E872562B9C8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374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379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384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89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94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99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404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409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07T08:50:07Z</cp:lastPrinted>
  <dcterms:modified xsi:type="dcterms:W3CDTF">2019-03-29T18:02:54Z</dcterms:modified>
  <cp:revision>407</cp:revision>
  <dc:subject/>
  <dc:title>18-741  Advanced Computer Architecture Lecture 1: Intro and Basics</dc:title>
</cp:coreProperties>
</file>